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CBD-685F-497A-98C0-8E0CE640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4CD-BC5B-4DB5-87DE-2778687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DF4-BBE1-47F1-8ECB-0E955168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902-FA90-4989-8D4D-057F1085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CDE-5793-4799-8519-0E12D0CF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0B63-D6EE-413E-900D-CF28243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B20-BFDF-43B5-8704-B007448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504-EC8D-4112-87FF-D10F229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F91-C466-4D1F-94E7-48C3F928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09EC-A09D-42F8-BBC7-4BEA1092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CB1-55EB-4E47-B2B6-F6742B4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B4E-7BF5-4135-8AF6-25E792EA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97E8-D153-4AB3-AD33-387ECB2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C874-DFEF-4DBC-B79C-2F4B607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8BFE-D6DF-41CE-B9B1-A787CD7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935-71B4-4BC8-AF96-0884651B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313-F3D8-48F5-8376-5362AEA5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EB6-C9D7-4240-8DC4-70809D3F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292-2A94-47EF-8C60-518B018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FA0-7ED5-4D20-A1DF-28AFEBE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C9F-605D-4752-806F-61F2FC15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545-CD37-4E93-A9D9-7DA91F4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5C4-1D14-4BE0-BF80-4415A83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B5B-996F-4CC1-982A-52C4436B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DF6-4B0A-449F-A3BA-C7300BEB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F775-300C-410B-BD49-1C062417F0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Integrated Pest Management (IPM)</a:t>
            </a:r>
            <a:br>
              <a:rPr sz="5700"/>
            </a:br>
            <a:r>
              <a:rPr b="0" lang="en-US" sz="3600" spc="-1" strike="noStrike">
                <a:solidFill>
                  <a:srgbClr val="e9ddcd"/>
                </a:solidFill>
                <a:latin typeface="Arial"/>
              </a:rPr>
              <a:t>Prevention, observation, and intervention</a:t>
            </a:r>
            <a:endParaRPr b="0" lang="en-US" sz="36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y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rgan Lis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Harmful Pest in U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myw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ider M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ea Bea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vest M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bbage Butterf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2628720" cy="177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705720" y="1447920"/>
            <a:ext cx="230508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219560" cy="29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838080" y="4556160"/>
            <a:ext cx="3200400" cy="214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are Pesticide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stance or mixture used to eradicate p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occur naturally or be synthe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715000" y="3246480"/>
            <a:ext cx="2590920" cy="361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y Are Pesticides Harmful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eat the food in which these harmful chemicals put on, endangering 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chance of canc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tic dam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m helpful ins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harm animals around these harmful pestici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DD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ginally used to control malaria and typh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ly toxic to aquatic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 known for reducing reproduction in bi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d ea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wn Pelic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egrine Falc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334120" y="39225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Immunity to pesticid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st are getting more genetically fit to not let these effect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come immune to it after a wh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How does IPM reduce use of pesticide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using IPM chemical control, is the last res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in goal is to see if pest are actually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not than nothing goe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"Crop Pests."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Insectclopedi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 n.d. Web. 21 Feb. 2010.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&lt;http://www.pedagonet.com/Insectclopedia/pest2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"DDT (Dichlorodiphenyl-Trichloroacetic Acid) - Ecological Damage."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Jran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n.d. Web. 21 Feb. 2010. &lt;http://science.jrank.org/pages/1963/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DDT-Dichlorodiphenyl-Trichloroacetic-Acid-Ecological-damage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"Pesticides." </a:t>
            </a: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Spirtus Temporis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. N.p., n.d. Web. 21 Feb. 2010. 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     &lt;http://www.spiritus-temporis.com/pesticide/dangers-of-pesticides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 Environmental Protection Agency. "Integrated Pest Management Principals."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U.S. Enviromental Protection Agenc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 10 Sept. 2009. Web. 17 Feb.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2010. &lt;http://www.epa.gov/opp00001/factsheets/ipm.htm&gt;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00120" y="990720"/>
            <a:ext cx="8010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is IPM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M is an environmentally sensitive and effective way of pest mana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s information and research found on life cycles of pest and how they interact with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apest and least hazarde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ptable Pest lev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know as action threshol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ally seeing a single pest, doesn’t mean control measures must be 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5" descr="pp863-1"/>
          <p:cNvPicPr/>
          <p:nvPr/>
        </p:nvPicPr>
        <p:blipFill>
          <a:blip r:embed="rId1"/>
          <a:stretch/>
        </p:blipFill>
        <p:spPr>
          <a:xfrm>
            <a:off x="685800" y="3733920"/>
            <a:ext cx="3505320" cy="29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21832E-006 L 0.15 -0.256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and identify p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must look around and see if thee is any pest, not just once a month, but multiple ti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be able to identify pest, some insects or weeds f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ld actually 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5" descr="lep-t-19"/>
          <p:cNvPicPr/>
          <p:nvPr/>
        </p:nvPicPr>
        <p:blipFill>
          <a:blip r:embed="rId1"/>
          <a:stretch/>
        </p:blipFill>
        <p:spPr>
          <a:xfrm>
            <a:off x="5562720" y="4114800"/>
            <a:ext cx="3581280" cy="240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ltur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al of this is to make the land less favorable for p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ould inclu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p ro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ing where to plant 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p cro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ting of certain less favorable pla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justing time of harv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ysical and Mechanic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ys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w covers or trenches prevent insects from reaching plant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 picking of p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cky boards/tape to catch flying ins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merous other trapping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5" descr="trench"/>
          <p:cNvPicPr/>
          <p:nvPr/>
        </p:nvPicPr>
        <p:blipFill>
          <a:blip r:embed="rId1"/>
          <a:stretch/>
        </p:blipFill>
        <p:spPr>
          <a:xfrm>
            <a:off x="7467480" y="1066680"/>
            <a:ext cx="1492200" cy="152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mic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step, if all others didn’t work than resort to th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to use ecofriendly chemic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c/biotanical pesticides pre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2895480" cy="255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Are Pest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rganism, usually an insect, in  which is presences is unwanted, and most likely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also be used to refer to harmful weeds, fungi, diseases, and vir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youtube.com/watch?v=n-UdcA_dXP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293976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04:58Z</dcterms:created>
  <dc:creator>SASD</dc:creator>
  <dc:description/>
  <dc:language>en-US</dc:language>
  <cp:lastModifiedBy>Morgan</cp:lastModifiedBy>
  <dcterms:modified xsi:type="dcterms:W3CDTF">2010-02-22T03:35:35Z</dcterms:modified>
  <cp:revision>17</cp:revision>
  <dc:subject/>
  <dc:title>Integrated Pest Management (IPM)</dc:title>
</cp:coreProperties>
</file>